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9F9D-F974-42D7-9CDD-92CF6590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ds are sensitive to allergens (sa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ur-jenz), substances that cause allergic reactions in the airways. Common allergens for kids with asthma include dust mites (tiny bugs that live in dust), mold (if you've ever been in a damp basement and smelled something funny, it was probably mold), and pollen (from trees, grass, and 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67-DF27-48FD-AE98-C2253940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6FD-9D0F-496E-B09A-8920032C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3AE-2764-4184-881F-EFAE44EB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8D5-9D23-429C-BF4B-85CF1AE0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22E-6D3B-47BF-9B27-E644FA0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121-6F68-4E75-A0E2-CF70570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EAD-CFEE-4ACD-A6FF-8863484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44D-5636-4C67-807A-91BE34D2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0AD-5C9C-4D13-9D0B-E4727B5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A5F-FAB9-434E-A499-FE250D04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C33-20F1-4904-84DE-F54A2DA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D8E-EAD0-4230-90F5-3C276C3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70E6-6652-4664-A03E-9DA62378C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d some breath problem, like asthm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5486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o, what is an “Asthma Flare-Up”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1828800"/>
            <a:ext cx="3886200" cy="2304720"/>
            <a:chOff x="685800" y="1828800"/>
            <a:chExt cx="3886200" cy="23047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85800" y="1828800"/>
              <a:ext cx="388620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2133360" y="26002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7400" y="2143080"/>
              <a:ext cx="53352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133360" y="286704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90920" y="21430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260028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0920" y="2867040"/>
              <a:ext cx="533160" cy="228600"/>
            </a:xfrm>
            <a:prstGeom prst="line">
              <a:avLst/>
            </a:prstGeom>
            <a:ln w="57240">
              <a:solidFill>
                <a:srgbClr val="ff99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426708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When you feel the airways get swollen and narrower and it becomes a lot harder for air to get in and out of the lu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t is similar to traffic jam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066680"/>
            <a:ext cx="28440" cy="1905120"/>
          </a:xfrm>
          <a:prstGeom prst="line">
            <a:avLst/>
          </a:prstGeom>
          <a:ln w="76320">
            <a:solidFill>
              <a:srgbClr val="ff99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hat Causes an Asthma Flare-Up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riggers of 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1371600"/>
            <a:ext cx="2209680" cy="2057400"/>
          </a:xfrm>
          <a:prstGeom prst="cloudCallout">
            <a:avLst>
              <a:gd name="adj1" fmla="val 63648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125800"/>
            <a:ext cx="180036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2343240" cy="11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10280" y="4572000"/>
            <a:ext cx="122580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09680" y="546120"/>
            <a:ext cx="1863720" cy="189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15000" y="4191120"/>
            <a:ext cx="86832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400" y="121932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lergens that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st mites, mold and po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2860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rry animals. Cats and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3434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erfume, chalk du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&amp; cigarette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486400"/>
            <a:ext cx="32004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xercise-induced asth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to treat asthm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29200" y="419112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o to see the doctor, he/she will think about your own condition, and decide on the best kind of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ry to avoid the 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to take asthma medicin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89072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1673280" cy="27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h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81480" y="365796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on’t worry! A lot of kids find their asthma goes away as they get ol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lenty of Olympic athletes and other sports stars manage their asthma, but keep on playing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1066680"/>
            <a:ext cx="3276360" cy="1905120"/>
          </a:xfrm>
          <a:prstGeom prst="wedgeEllipseCallout">
            <a:avLst>
              <a:gd name="adj1" fmla="val -69717"/>
              <a:gd name="adj2" fmla="val 19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will asthma impact my lif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886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33:42Z</dcterms:created>
  <dc:creator>hcai3</dc:creator>
  <dc:description/>
  <dc:language>en-US</dc:language>
  <cp:lastModifiedBy>hcai3</cp:lastModifiedBy>
  <dcterms:modified xsi:type="dcterms:W3CDTF">2007-12-04T18:38:20Z</dcterms:modified>
  <cp:revision>15</cp:revision>
  <dc:subject/>
  <dc:title>Slide 1</dc:title>
</cp:coreProperties>
</file>